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2F0-6BCF-40FD-B4C2-62F22ED12C40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8F6-9CA2-429B-AB58-0C01E34BB12E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99836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 </a:t>
            </a: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рН вредност крви у трудноћи је незнатно повећана на 7,44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компензације респираторне алкалозе, која се јавља због смањеног парцијалног притиска СО2 проузрокованог дејством прогестеро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довести до измена везивања лекова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купна концентрација протеина плазме се не мења, али је концентрација албумина око 20-30% м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смањене синтезе или повећаног клиренса албуми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je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мерено до незнатно смањен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д лекова чији клиренс је лимитиран везивањем за протеине плазме (већина лекова који се у виском проценту везују за протеине плазме), због смањења концентрације албумина повећава се слободна фракција и последично смањује укупна концентрација лека; међутим, концентрација слободног лека се не мења, па укупан ефекат остаје непромењен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роцену дозирања, у трудноћи треба мерити концентрацију слободног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колико се и концентрација слободног лека смањи, то је последица повећања интраваскуларног волумена и/или клир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крвљеност јетре се током трудноће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ценат минутног волумена срца који иде у јетру је мањи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 око 35% пада на око 30%), али је укупна количина крви која пролази кроз јетру (услед повећања минутног волумена срца) непромењ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расте током трудноћ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трећем триместру је 30-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етаболизам леков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мене су махом узроковане изменама у хормонском статусу: у трудноћи је ниво прогестерона до 5 пута већи, а ниво естрадиола чак и до 250 пута већи у односу на период ван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2 пута мања у другом, а 3 пута мања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смање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3.581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495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3A4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3А4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9826 x GA- 0.0741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у трудноћи зависи од генотипа: смањује се код спорих, а повећава код екстензивних метаболиз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код екстензивних метаболизера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2695 x GA-0.0348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9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19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NAT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мања у трудноћ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оком трудноће расте прокрвљеност бубрег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 крај трудноће 2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% минутног волумена срца иде у бубрег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у трећем триместру је до 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рзина гломеруларне филтрације расте током трудноће и максимум достиже пред порођај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повећане прокрвљености бубрег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лек који се елиминише неметаболисан преко бубрега, просечна концентрација у крви под истим дозним режимом током трудноће може бити мања и до 50%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убуларна реапсорпција се у трудноћи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креатинина, као показатељ бубрежне функције, у трудноћи се повећава и пред крај трудноће већи је за око 25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познате вредности клиренса креатинина пре трудноће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0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1" lang="sr-RS" sz="2200" spc="-1" strike="noStrike" baseline="-25000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(ml/min)</a:t>
            </a:r>
            <a:r>
              <a:rPr b="1" lang="sr-C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+ 3,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9107 x GA - 0,0789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током и после порођај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оком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инутни волумен срца се повећава, проток крви кроз мишиће и плаценту се смањује, гастроинтестинална активност престај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сле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већан минутни волумен, смањена концентрација албумина и повећана гломеруларна филтрација задржавају се до 12 недеља након порођа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мењена активност метаболишућих ензима враћа се у нормалу нагло унутар прва 24 сата после порођаја, или постепено у току првих пар месец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териндивидуална варијабилност у постпарталном периоду изражен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j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него инач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фузија – најчешћи начин прено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ем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авањ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трудноћ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Улога плаценте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етална фармакокинетик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лактациј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ИР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ежб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чка израчунавања код трудница и дојиља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аветовање пацијенат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ликом проласка кроз плаценту неки лекови се метаболишу (ефекат првог пролаз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 плаценти на крају трудноће активни су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1A1, CYP2E1, CYP3A4, CYP3A5, CYP3A7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4B1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ли и нек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ензим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ивои ензима обично су много нижи него код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остали лекови преко умбиликалне вене улазе или у јетру (нови ефекат првог пролаза) или директно у срце преко 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ductus venosus-a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етус, плацента и амнионска течност сматрају се феталним одељ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виси од плацен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 трећем триместру транспорт кроз плаценту је повећан као последица повећања утероплацентног и фетоплацентног протока, повећања површине плаценте и истањења плацентне баријер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равнотежном стању концентрација лека у феталној крви достиже 50-100% концентрације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онцентрација албумина у феталној крви расте током трудоће и пред крај достиже вредности које су до 20% веће у односу на вредности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током трудноће опада, па приликом примене лекова који се за њих везују долази до пораста слободне фракције у феталној крв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640"/>
            <a:ext cx="845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нзимски процеси постају активни тек око 7-8. недеље трудноће, и нижи су у односу на мајчине, па успорени клиренс лекова може довести до њихове акумул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самом почетку се одвијају екстрахепатично (у феталном надбубрегу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ед крај трудноће достижу 30-60% активности одраслог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важнији метаболишући ензим код фетуса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3A7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ост ензима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је значајно мањ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сновни начин је дифузија кроз плаценту у мајчин крвоток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тежан је метаболизмом, јер поларни метаболити теже дифундују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поларне супстанце се излучују преко бубрега у амнионску теч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проток крви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роз бубреге </a:t>
            </a: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је мали и овакво излучивање је мање изражено и спорије него код одраслих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гутањем плодове воде тако излучени лекови се реапсорбују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Моделирање плацентног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трансфера </a:t>
            </a: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и фетална изложеност л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ековима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У зависности од физичко-хемијских својстава лека, такође значајно варира између врс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Гестацијске промене у физиологији мајке које утичу на диспозицију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које се јављају у физиологији плацен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у диспозицији и клиренсу лекова у фетусу током време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Изложеност лековима у трудноћи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812960"/>
          <a:ext cx="8229600" cy="420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већа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роме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Инфликси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ноксапар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еторолак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евотирокс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инезолид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оксифлоксац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селтами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Флуоксет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далиму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моксици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Бупренорф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опина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ронидаз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ндансетро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арацетам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Сертра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инципи дозирањ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обичајен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римењена доза се обично заснива на препорученој дози за мушкарце или жене изван трудноће у комбинацији са проценом клиничар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Механицистичк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зајнирање одговарајућих протокола дозирањ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чки модел заснован на физиологији </a:t>
            </a: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(PBPK)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Кретања лекова у телу до физиолошки реалистичне структуре одељака користећи скупове диференцијалних једначи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изиолошки параметр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ременски различите промене у телесној тежини мајке, појединачном волумену органа / протоку крви, минутном волуменз, брзини гломеруларне филтрације и активностима ензима који метаболишу лекове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 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Параметри специфични за лек (нпр. физ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чко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-хемијска својства и карактеристике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витро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метаболизма / транспорт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случа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ица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хроничном хипертензијом, која је наставила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а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узима 50 мг два пута дневно орални метопролол пре и током трудноће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јавља се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повишеним крвним притиском (&gt; 150/10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очетку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трећ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ег триместра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Њен крвни прити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к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 у првом и другом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риместру је био добро контролисан и износио је, 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у просеку 110/70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пунска дијагностика је искључила додатне поремећаје као што су прееклампсија и други узроци погоршања хипертенз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Разматрају се могућности повећања дозе метопролола или замена неким другим лек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нета је одлука да се доза метопролола постепено повећа до 150 мг три пута дневно.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рвни притисак јој се нормализовао, трудноћа се наставила и рођено је здраво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ва месеца након порођаја, доза је враћена у дозу пр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рмакогенети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опролол се метаболише путем цитохром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450 (CYP) 2D6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ктивност расте почев од раног другог триместра и наставља се како трудноћа напреду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лонидин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S-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топролол, карведилол, пропранолол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7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људи у САД су ултрабрзи метаболизери, а у популацији у Азији и 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45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(мултипликација гена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многих лекова се у трудноћи повећа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ње концентрације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Лекови и лакта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Епидемиолошке студије указују да већина жена током периода дојења узима лекова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65.9%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-88.7%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ајчешће коришћени леко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налгетици, антибиотици, витамини, суплементи гвожђа, лаксативи, пробиотици, препарати у слободној продаји (ОТЦ) са или без лекова на рецеп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тенцијални проблеми нису ретк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ришћење лекова са вероватним штетним дејством на одојче (11.3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енцијално неадекватна доза (4.5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реба за праћењем одојчета због потенцијалног ризика од нежељених дејстава лека (3.6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значај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мена лекова у трудноћи често је неопходна, како због саме трудноће, тако и због болести мајке које захтевају леч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њује се да у развијеним земљама 80% трудница узима бар један лек (прописан или </a:t>
            </a:r>
            <a:r>
              <a:rPr b="0" i="1" lang="sr-RS" sz="2000" spc="-1" strike="noStrike">
                <a:solidFill>
                  <a:srgbClr val="003d62"/>
                </a:solidFill>
                <a:latin typeface="Calibri"/>
              </a:rPr>
              <a:t>о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ver-the-counter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страха од тератогености и фетотоксичности, лекови се често не примењују довољно дуго и у довољној доз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оза и дозни режим увелико зависе од фармакокинетике лек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оћа мења анатомију и физиологију жене, а тиме у великој мери и фармакокинетику леко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кстраполација фармакокинетских података добијених студијама на женама ван трудноће често није прихватљ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 етичког становишта труднице су вулнерабилна популација, па их фармакокинетичке студије веома ретко укључ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 лекова у млеко обавља се у највећој мери пасивном дифузиј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фактори који утичу су везивање лека за протеине плазме у крви мајке, везивање лека за протеине млека, садржај масти у млеку и физичко-хемијске карактеристике ле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O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ос концентрација лека у млеку и плазми је познат за већину лекова и користи се за процену дневне количине лека која доспе до новорођенчета/одојчета преко мајчиног млека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ID - infant daily dose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ID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mg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g/ml) ×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/P × Vm (ml/kg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просечна концентрац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а у плазми мајке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/P*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– однос концентрација у млек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(M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 плазми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(P)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мајчиног млека коју дете попије током једног дана (обично око 150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l/kg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M/P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се заснива на вредностима површина испод криве концентрација/време, ако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&gt;1 –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 се акумулира у млек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За процену безбедности дојења приликом примене лекова израчунава се релатив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ID (mg/kg) / TD (mg/kg)] x 100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ID -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евна количина лека која доспе до новорођенчета/одојчета преко мајчиног млека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– терапијска дневна доза мајк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рбитрарна граница је 10%: уз малобројне изузетке, вредност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ање од 10% сматрају се безбедним за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езбедност дојења у највећој мери одређује елиминација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реме полуелиминације вежине лекова код новорођенчета/одојчета је продужено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оцена безбедности доз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 </a:t>
            </a:r>
            <a:r>
              <a:rPr b="0" lang="sr-CS" sz="2400" spc="-1" strike="noStrike">
                <a:solidFill>
                  <a:srgbClr val="003d62"/>
                </a:solidFill>
                <a:latin typeface="Symbol"/>
                <a:ea typeface="Symbol"/>
              </a:rPr>
              <a:t>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0.15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/kg/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Арбитрарни лимит безбедности 10% - однос дозе одојчета и дозе мајк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mg/kg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Зависи од природе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Литијум (80%), амјодарон (5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Високо токсични лекови КИ (и мање од 1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Цитотоксични леко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Ергот алкалоид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епарати злата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Имуносупреси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Моделовање проласка лека у млеко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инамички модел дојења који се састоји од три одељка: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крв дојке, ткиво дојке, млеко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Физиолошки параметри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ткива и проток крви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млека и унос млека, заједно са појединачним физиолошким параметрима и њиховом променљивошћу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виђање модела вредности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AU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–24h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 млека и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000" y="162828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иселост желуца је смање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оље се апсорбују базни леко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ажњење желуца је успорен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реме до постизања максималне конц. лека у крви је продужено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еристалтика је неправил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бим апсорпције је повећа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рганизам садржи више воде и мање масти него одрас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је повећан, а липофилних смање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протеина плазме је смањена и мањег афинитета за леков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је увећа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метаболишућег система наступа тек око 8. месеца живота (код превремено рођених и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различитом брзином, између 2. месеца и 3. године неки могу и превазићи метаболички капацитет одраслог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још спорије и неправилно, са израженим интер-индивидуалним варијацијам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бубрежне функције наступа између 2. и 9. месеца (код превремено рођених значајно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ворођенче старо 3 дана има ниво гломеруларне филтрације који износи 1/3 вредности одраслог, нормализација између 2. и 5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тубуларна секреција развија се још касније,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рмализација тек између 7. и 9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Клиренс лекова код дец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1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 одојчета и малог детет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иренс лека у односу на одрасле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59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2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3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-40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-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длука о примени ле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чекиване користи по мајку и ризици за одојч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аћење општег статуса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лабије напредовање, иритација, сед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јити непосредно пре примене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времени прекид дој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Поново почети дојење за 5 периода полуелиминације лека од престанка приме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писивати најмању дозу која је ефикас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начин примене са мањим ризи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предност дати слаборесорбујућим лаксативима (влакна) у односу на оне с надражајним дејств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лек повољне фармакокинетик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кратко полувреме елиминац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неселективну и без преке потребе примену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иљних лекова, дијететских суплемената и поливитаминских препарата (адултерациј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мена лека прва 3-4 дана је обично безбедна због ограничене запремине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Узраст, телесна маса, клинички статус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едоношчад и новорођенчад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линичка нестабилност и поремећаји дигестивног тракт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обрени (лиценцирани) лекови у педијатриј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уготрајна медик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ајчешће мала ако дојење траје дуже од 1 годи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лекове који ремете стварање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alibri"/>
              </a:rPr>
              <a:t>Најчешће коришћени лекови у трудноћи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Лечење акутних стања која се могу погоршати трудноћ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главобоља, општи болови и болови, желудачни рефлукс, симптоми прехладе, мучнина и инфекције мокраћних путе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кови за најчешћа хронична ст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алергија, астма, стања штитасте жлезде, депресија, жене са трансплантираним органима, епилепс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чење постојећих ст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актеријске, вирусне или гљивичне инфекције, стања везана за трудноћу, попут гестацијског дијабетеса и хипертенз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  <a:ea typeface="Calibri"/>
              </a:rPr>
              <a:t>Категоризација ризик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Америчка управа за храну и лекове (ФД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1979. </a:t>
            </a:r>
            <a:r>
              <a:rPr b="0" lang="sr-RS" sz="2400" spc="-1" strike="noStrike">
                <a:solidFill>
                  <a:srgbClr val="006699"/>
                </a:solidFill>
                <a:latin typeface="Calibri"/>
                <a:ea typeface="Calibri"/>
              </a:rPr>
              <a:t>до 2014. </a:t>
            </a: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- Категорије А, В, С, D, X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2015. наративна категориза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1. Трудно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реглед ризи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Клинички аспек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одаци (код људи и експерименталних животињ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Регистри употребе лекова у трудноћи (ако је применљиво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2. Дој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3. Репродуктивни потенцијал за женски и мушки пол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апсорп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тилитет гастроинтестиналног тракта у целини је непромењен у прва два, а успорен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рН вредност желудачног сока је повећана током цел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оком трудноће, време до постизања максималне концентрације орално примењеног лека обично је продужено, а максимална концентрација у крви сниж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 посебног значаја у примени лекова у појединачној дози, од којих се очекује брзо деловање (нпр. аналгетици и антиеметици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Биорасположивост лекова може бити и смањена и повећа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орално примењене лекове зависи од активности метаболишућих ензима током првог пролаза кроз јетр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парентерално примењене лекове зависи од начина примене: током трудноће расте прокрвљеност коже, а смањује се прокрвљеност мишић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елесна маса током трудноће рас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особе нормалне ухрањености пораст обично износи од 10 до око 17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следица је како повећања телесне течности, тако и повећања масног ткив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телесне течност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купна количина екстрацелуларне течности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ECF, extracellular flui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укупна количина воде у организм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TBW, total body water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раст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већање зависи од телесне тежине и креће се од 35% до 6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односно од 10% до 2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TBW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оводи до повећања волумена дистрибуције хидрофилних лекова, чиме се повећава доза коју треба дати за постизање жељене концентр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 (l) = TBW (l) + 0.275 x GA+ 0.0024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воде у организму жене пре трудноће и израчунава се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TBW (l) = -2.097 + 0.1069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cm)+ 0.2466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E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ECFp (l) = ECF (l) + 0.0187 x GA+ 0.0016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екстрацелуларне течности пре трудноће и може се проценити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ECF (l) =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6469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7236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0.02154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у трудноћи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вредности укупне количина екстрацелуларне течност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, укупна количина воде у организму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 и с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ободне фракције лека у плазми*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Fp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 = ECF + Fp x (TBWp – ECF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у трудноћи се значајно мења само за лекове који се везују за албу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масног ткива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епозит додатног масног ткива скоро у потпуности се одвија у другом триместру и износи у просеку око 4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процесу учествује хормон лептин, који иначе регулише апетит и депоновање масти, а у трудноћи се лучи у плацен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лесна маса без масног ткива* у трудноћи може се израчунати на основу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= TFFM - 0.047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034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nb-NO" sz="20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телесна маса без масног ткива код жена пре трудноће и израчунава се као </a:t>
            </a:r>
            <a:r>
              <a:rPr b="1" lang="pl-PL" sz="2000" spc="-1" strike="noStrike">
                <a:solidFill>
                  <a:srgbClr val="003d62"/>
                </a:solidFill>
                <a:latin typeface="Calibri"/>
              </a:rPr>
              <a:t>(9270 x TBW) / (8780 + 244 x BMI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MI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је индекс телесне мас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ody Mass Index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ји се израчунава као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 (висина(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m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))</a:t>
            </a:r>
            <a:r>
              <a:rPr b="0" lang="en-US" sz="20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 од значаја је за дозирање лекова који су хидрофилни, утицај повећања масног ткива на дистибуцију липофилних лекова у трудноћи још увек није довољно позна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1:28Z</dcterms:modified>
  <cp:revision>560</cp:revision>
  <dc:subject/>
  <dc:title>Fluid &amp; Electrolytes Management</dc:title>
</cp:coreProperties>
</file>